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211-FE70-4267-B625-C58F63AA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02A-415D-4D5F-BE1A-5BF10881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B62-6DB3-4151-80A2-976A2C89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3B0-7570-4B19-84EC-4149BF4D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082-F6B3-4908-8575-C8CDAE67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4E4-34BD-4EBF-B039-2631ABA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B9D-476F-43C5-AAEA-1759E2B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E9AF-7EE7-4739-8ED1-DF51DB61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B83-351B-4268-B2E4-2FEDB00A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8A62-9F35-4604-AF21-4E7C9F1A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111-4FD9-4891-8A85-54F6E7C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F74-CE75-42AB-9EC1-48F103E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38A7-74C9-410D-991E-4F43ECC18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2280" y="152280"/>
            <a:ext cx="202680" cy="6504120"/>
            <a:chOff x="152280" y="15228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278640" y="17928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5228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67800" y="152280"/>
            <a:ext cx="197280" cy="6408000"/>
            <a:chOff x="8767800" y="152280"/>
            <a:chExt cx="1972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896680" y="152280"/>
              <a:ext cx="68040" cy="63324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67800" y="311400"/>
              <a:ext cx="77760" cy="624852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304920" y="6408000"/>
            <a:ext cx="8686800" cy="229320"/>
            <a:chOff x="304920" y="64080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610160" y="21020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517280" y="23486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152280" y="152280"/>
            <a:ext cx="8745480" cy="161280"/>
            <a:chOff x="152280" y="15228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605120" y="-397944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94600" y="-419004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3c36"/>
                </a:gs>
                <a:gs pos="100000">
                  <a:srgbClr val="0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7696080" y="5410080"/>
            <a:ext cx="943200" cy="90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AIUM 2010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Point-of-Care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ltrasound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114800" y="39621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lip J. Bendick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CAVL Board of Dir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28800" y="3657600"/>
            <a:ext cx="205740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AIUM 2010 Point-of-Care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ltrasound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7840" y="2438280"/>
            <a:ext cx="7986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AVL:  Intersocietal Commission for the Accreditation of Vascula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invasive diagnosis and evalua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pheral 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AIUM 2010 Point-of-Care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ltrasound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AV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657600"/>
            <a:ext cx="5867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NewRomanPS-BoldItalicMT"/>
              </a:rPr>
              <a:t>Th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NewRomanPS-BoldMT"/>
              </a:rPr>
              <a:t>ICAVL STANDARD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NewRomanPS-BoldMT"/>
              </a:rPr>
              <a:t>ACCREDIT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NewRomanPS-BoldMT"/>
              </a:rPr>
              <a:t>NONINVASIVE VASCULAR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AIUM 2010 Point-of-Care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ltrasound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UM/ACR/SRU Practic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UM Offi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U Professional Performanc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S Diagnostic Ultrasound Clinical Practice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U/SDMS Scope of Practice for the Diagnostic Ultrasound Profess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AIUM 2010 Point-of-Care</a:t>
            </a:r>
            <a:br>
              <a:rPr sz="4800"/>
            </a:b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Ultrasound Fo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7502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sues and Concer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t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ly standardiz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quality of exam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ly standardized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dddd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quality assur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20:28:33Z</dcterms:created>
  <dc:creator>PBENDICK</dc:creator>
  <dc:description/>
  <dc:language>en-US</dc:language>
  <cp:lastModifiedBy>kb</cp:lastModifiedBy>
  <dcterms:modified xsi:type="dcterms:W3CDTF">2010-10-12T13:32:56Z</dcterms:modified>
  <cp:revision>3</cp:revision>
  <dc:subject/>
  <dc:title>AIUM 2010 Point-of-Care Ultrasound Forum</dc:title>
</cp:coreProperties>
</file>